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2B2-219F-4ED0-A796-19E82F4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58D-BF38-4F8C-A2C4-437CEF1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ED23-C54B-42DC-986D-DA8F7F9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73C84-EE45-4FDA-BAB6-689DC4C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50AF5-EC75-45E3-8ACA-CF17508F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F44E0-2E4D-452F-8267-2F79C47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B5E76-C9B3-4DE7-A740-A7980C5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3E431-1C03-447E-9CCF-02E7611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A9015-7964-4181-8A25-3ED1801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69BA6-348C-421B-BE41-78EBD16E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424F9-518B-4653-A939-EFBBB3CF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BBC9B-13C6-4323-8D93-0F4B169C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03B-6DE3-4EE8-A66A-82D676CC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7F389-9D00-465D-A46B-010ADD4E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C471C-4B63-45A6-82D9-49140E0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08240-2C23-441B-8759-0FC2518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C5138-B163-44B9-89C3-EA6398B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4B19-D64D-4030-B612-8DB0767D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58371-4513-4800-8018-A5D74E4D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DA481-5BB5-4EF3-A5A0-7125DD6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1F09A-CC08-4031-BE9F-D459627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9929-D77A-4EC8-B5BC-D54CCA5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DAFA-6404-4981-96F4-1BF073C3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E2E-A97C-4575-B134-B22A5531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72488-984E-4860-A29A-D1576065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F2D8D-C6CB-44D8-8EDD-9F3F78CF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B061-3F0F-4861-97B7-93481DF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A016-F73C-4064-AB05-66CF451C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03127-207C-40E9-9D80-04D015D2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C6D38-9D6B-4401-82CB-698A361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7877-590D-4BEF-B4CD-1F64F545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9E38-0C2B-4EE1-8901-5524D92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B547-5BAE-4C43-8161-3717C8F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E1B1-2D23-41CE-9D98-1FB75CA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2FB2-4899-4BAB-87F4-0F63558E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F865D-7890-4143-B151-C9CBB3CF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1E8E-EAD0-4D60-B3FE-5315087E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F49D6-3618-4D47-84FA-D61933A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1F071-3E05-440B-B21C-258DF5D7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033E-C6BC-4D12-A9E5-3DACC9C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C1351-0E91-49C0-B572-8A509D1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1568-CFE5-447C-A268-A275D76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F982-62E9-416F-A859-255BF53B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1F85-92F2-43D5-A450-4B23A99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3D419-6AED-4456-9337-FA3DB80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37E-2E9A-4278-810A-3F7BFD7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01CB3-3C8C-4935-9E6E-32CB744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44C43-55A0-43A2-9E5D-960478A6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51CD8-4A2A-461F-A52A-546264A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D8CE4-3335-4E10-B48C-ED71E0C0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35453-14E8-4024-8AA1-0453D55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8CE9-48FD-47B0-9E5E-173EE7D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D64A-FC87-40D6-BA0D-7D9C145C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CD5-876C-415E-B5BE-126EED7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D994-53C6-4A74-B42A-9739555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D95D-4B7B-47CF-8A24-24413E4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BBD-F10E-4DE2-8E64-BD288F9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AFC-0EDD-4A25-9736-A1AEE3D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11C9-2BA7-4D88-AEC8-C92C1A2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FB99-03CB-48A3-B8F1-FA32092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71C-9E8E-4CD3-97BB-7D89DB9E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6CE-C1D8-4B60-83F7-3C7CDD88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4314-A75E-4E0A-9F23-75111A21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0854-9C87-47D7-9DE7-983F61E7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74FA-DCDE-4AD1-9F06-98277C4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5625-281A-4379-BC8F-7EE9325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A816-D2DE-4477-8441-D3C7E5DF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D91-DEAC-4091-8945-CFBE12A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DA29-EF48-4CAB-9D93-B347957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A0B9-5AAB-4386-98F8-94BD447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B61A-FCD9-4D45-A2CE-A7FFF53B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30D8-3BE2-4DD0-96DF-9EBCA27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192D-6866-455F-96B9-35292DC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42E1-1B84-491D-A4F1-3B850B3E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83D4-000D-48D5-BB79-AC8B0FF4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4A2A-47FD-434F-A0D8-33577970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D5D1-BF45-42C8-9B1C-544ACA69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5501-1CD0-497D-9B3C-E490202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92B-BAE2-4136-B234-DC4D186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1125-667B-48C9-85FE-81D75AF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475B-CFB1-40F9-A8A2-C59A057C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87C6-62D5-4E1F-96BA-4F22C3FB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A456-667D-45ED-96EA-5D992F3E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8C4E-F63E-488F-BF66-0A0C7B9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59F9-DE8C-4F25-8BD5-F200B6D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A1008-1BAA-45CC-A564-24D00E7A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7911-5273-49F6-82BC-FBF58DEE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154B-1D26-4010-BC6B-120F8164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849B-D5B8-4DD9-885F-DE508153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127-F5B9-4DDA-83B4-1F97C23E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BD79-9978-45B0-883D-5F4B66C8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C6A1-D66B-4974-90C1-F98FB0CF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503D-2E63-4C18-8772-3F0A259E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CB1B-4333-483B-93B4-5C0ECEB1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98EC-961F-4455-A453-AE92307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08C2-158D-436E-AC34-468D4D9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F9239-31BB-416A-B5B5-1084D3B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22F5-52A6-4417-8610-6F777166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B8E6-2ED1-4262-96AB-8B0ED96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127E1-110D-4AD0-81DD-A3CA9019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6DB-EA35-46FF-85F3-7C5100AC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A606-7EE2-4D71-83B2-601FECC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C538-4B3D-47D2-9AD5-F9F5BA1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6F75-7054-428D-9CC6-79F5EFF5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9197A-02E5-4308-BE85-A454C20F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46B6-6D93-44A1-B033-45240A9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6F16-7460-451C-84FE-6BBB6EC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C943-89AE-4BA9-A43C-C723337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BFD3-2E0F-4608-AC4B-E15430A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0397-73D8-454D-B93A-32873BE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28DC-2524-423B-9F3B-F5F8A21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8D3-1815-4401-80CB-FA2C62D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01C7C-60C4-4F78-864B-02678F2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98EF-D33A-4107-93A9-4EED355C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AEEFD-55D9-4736-B83A-0AB3181A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F78E-983E-4A2E-9BA2-354BF088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CF8A2-B2B8-44F3-868B-C7BA58B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8A67-3637-4524-8FDE-7353E1E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472F-4BBB-4C9D-BEBE-A8CAE00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5CC6-AAB1-48A0-A167-131447DA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51B3-7EB7-4760-B529-1C902B23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74AC-6C28-43B1-BF33-A32C30B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7D8-42AA-4D3C-9023-C840AA0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B59A3-E8EB-44E9-A1D7-F6E0EC7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5070-511F-4946-9192-367FABB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591E-3DE8-4A57-A307-3ED4775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98E7-323F-4C7D-B2F8-D4D9F543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5B82-3668-4082-BD94-16129D93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C125-C674-403B-A919-3F249DD1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756F3-ACA0-4FA8-994B-47B7C08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FC062-6E98-47A8-B4FC-D7836AAD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6772-7B8B-49D8-855D-CEE01EC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79F1-F975-4E9E-AF8C-FB488F0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A47-FAAB-4BD7-9890-47F766C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824B1-5468-413A-9055-41302B2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2770-5798-432F-9974-CE22430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E330-8470-4F2A-8A2E-22224AB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A8F2-20EA-4729-BC71-CF9A580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62F4-B786-4C3A-96DC-6F3BE4A1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BC2E-41F2-45A4-A2F6-3C1C409D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534B-55A8-42E4-9995-EC9E223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391C-D01D-4FCB-96C9-47E58971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042E-6535-461A-A203-BC6B68BD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E32FD-5386-4BF5-87BE-AA8A4EE9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C53A-C471-4CE7-8821-0916E74806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F4D0-DB54-45C0-93F7-03AB1FFE848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9CC-9416-4F3C-A92A-1ACBB881839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7A9-3E3D-4A36-961D-FE83321B623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DAB0-58F5-4BE9-9571-0A51F251C4E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C4FC-FB10-41F8-9F6E-613EBC2F6F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6BA-D020-48F6-9E0E-C7E30151C7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658-AE34-4F68-9123-FB62515028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194-364B-4272-83E9-B875E41E641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C7B-322B-4189-942F-4A7834B6C1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094-E19A-4BA4-843C-AB832B8ECA3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862-6FBE-472E-ADB6-505C6B5D93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6 Pán Ježiš príchod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chy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Ježiš príchod svo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ám z nebies chy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by nám dedi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em novú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spi a priprav s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vítať Krista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prievode anjelov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d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hľadaj pokla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omto sve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tu krátke, ver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á tr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mu len s dôver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obráť zreteľ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vody svet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odpovedz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ovzdaj Pánov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život cel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ne ťa mil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lásky mu slú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rátka len chví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ty budeš v ciel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skoro príde tvoj Spasiteľ u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1:40Z</dcterms:modified>
  <cp:revision>21</cp:revision>
  <dc:subject/>
  <dc:title>Je veľký náš Pán, on slávy je Kráľ Nech do všetkých strán  spev vrúcnych znie chvál.</dc:title>
</cp:coreProperties>
</file>